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A4C1-078D-4B41-82B3-EC7DA09B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5DC2-2011-461B-AF35-DFDCF34E5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5C1-7275-48CA-A529-6A2FF6CE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40D-6D31-4868-A90E-5428156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89E-DEB9-4883-A062-31757CE4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B47-9F48-410A-870F-536CB7D3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135-C977-46C0-A5CE-997A917B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D56-DE04-40F6-84FA-B3D9DE9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7F3-D8F3-498F-BC91-A9F355EF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AF0-1882-4556-B12B-A999659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47C-0024-4AE7-8866-BAD1A74E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A0F-6788-4951-BB36-24562889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FD5-5715-4BE9-A155-96607E6E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C58-05B9-4B17-A7C3-66F744A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BA4-75BC-4258-B4CF-510E6BA3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Rashmi. Yo vivo en Nueva York. Tengo quince años. Tengo dos hermanas. Muy bueno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NYCDOE</cp:lastModifiedBy>
  <dcterms:modified xsi:type="dcterms:W3CDTF">2012-11-30T15:00:17Z</dcterms:modified>
  <cp:revision>101</cp:revision>
  <dc:subject/>
  <dc:title>Profile</dc:title>
</cp:coreProperties>
</file>